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954ED-F985-4CCD-80CB-01B03C558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27305-B646-4FCD-ADBB-0A027E032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A39D6-B407-44FB-AA19-986B4C934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C7B54-0D3F-4D3C-975F-8901D93D1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DF328-6780-4E04-8FC5-7451C6D6D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6C631-8471-4998-A21C-84668C018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A52B3-A692-44E1-866E-C0952238B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A303A-CC30-44D2-9F9B-E250FB39A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F7E83-FA78-49AF-94BD-E92F6D24B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60E49-11ED-4E7F-833B-CBEE75924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5783E-458D-44DC-9A39-230EB135E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501BF-C6C5-426E-9B41-560791E71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5FC0-7598-4C50-942A-4B93970F62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124000" y="3357720"/>
            <a:ext cx="487692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siunea iunie-iulie</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00"/>
            </a:gs>
          </a:gsLst>
          <a:lin ang="54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Elev</cp:lastModifiedBy>
  <dcterms:modified xsi:type="dcterms:W3CDTF">2012-06-18T11:02:26Z</dcterms:modified>
  <cp:revision>47</cp:revision>
  <dc:subject/>
  <dc:title>SALARIUL</dc:title>
</cp:coreProperties>
</file>